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A8-E4F0-42B9-AA21-5346BA15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DC3-8CF2-40C7-84C9-A504B3E1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9D0-EA01-4E78-92C4-550405A1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425-917E-42C8-BA93-0D3B682D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F9A7-4B6F-4589-9665-2B1A4703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43EC-4C35-4B96-8AF2-62A4F5A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004-8BC1-4E8D-801D-A10AC1E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E18A-F06B-4A11-834C-B93D860E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2B5-A03C-4348-BF3C-0AE27344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04D9-24FA-4DDB-816A-510411EB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4E3-7E25-4D1A-84C0-C15B187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A1-D313-4538-B463-AC1FFF09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282-8AB9-44CB-91C1-DBEC2C3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DFC3-2E20-413C-8363-C713296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5CC-CC7E-4DB8-AC36-F0577D1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906C-B54E-4182-A989-EB5E2C1E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317-5ACE-4457-878D-48E79919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E6F-610D-4A37-9614-3ADA1012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712-2A83-472D-9E25-247F819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3B3-25BE-4130-9346-A64617D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DEE-B3F7-4ABC-85D0-42F84A3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460-7D03-44E4-A632-173B483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61B-A166-40E1-9222-3371377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AE2-E6F1-4DAA-B7AE-EDA9713E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DFE-2793-4151-AE4A-CDAB324BB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C74-D642-4860-A22A-B49E7306A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cquiring and Managing Global Pow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 History – Chapter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US Interventions in the World </a:t>
            </a:r>
            <a:br>
              <a:rPr sz="4000"/>
            </a:b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1890-1917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 separate piece of pap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the map on the next slide.  List six things you can learn from the m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718160" y="2147760"/>
            <a:ext cx="367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968720" y="2147760"/>
            <a:ext cx="31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ction 21.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Section 21.2.  Copy the spoke diagram and list three key pieces of information about that president’s foreign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965840" y="214776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23:15:57Z</dcterms:created>
  <dc:creator> </dc:creator>
  <dc:description/>
  <dc:language>en-US</dc:language>
  <cp:lastModifiedBy>School District U46</cp:lastModifiedBy>
  <dcterms:modified xsi:type="dcterms:W3CDTF">2008-10-28T14:04:05Z</dcterms:modified>
  <cp:revision>1</cp:revision>
  <dc:subject/>
  <dc:title>Acquiring and Managing Global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